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80920" y="456840"/>
            <a:ext cx="84204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80880" y="685800"/>
            <a:ext cx="9354960" cy="1103040"/>
            <a:chOff x="380880" y="685800"/>
            <a:chExt cx="9354960" cy="1103040"/>
          </a:xfrm>
        </p:grpSpPr>
        <p:grpSp>
          <p:nvGrpSpPr>
            <p:cNvPr id="3" name=""/>
            <p:cNvGrpSpPr/>
            <p:nvPr/>
          </p:nvGrpSpPr>
          <p:grpSpPr>
            <a:xfrm>
              <a:off x="682560" y="798840"/>
              <a:ext cx="738000" cy="497520"/>
              <a:chOff x="682560" y="798840"/>
              <a:chExt cx="738000" cy="497520"/>
            </a:xfrm>
          </p:grpSpPr>
          <p:sp>
            <p:nvSpPr>
              <p:cNvPr id="4" name=""/>
              <p:cNvSpPr/>
              <p:nvPr/>
            </p:nvSpPr>
            <p:spPr>
              <a:xfrm>
                <a:off x="682560" y="798840"/>
                <a:ext cx="453960" cy="497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080000" y="798840"/>
                <a:ext cx="340560" cy="49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811080" y="1241640"/>
              <a:ext cx="765720" cy="497520"/>
              <a:chOff x="811080" y="1241640"/>
              <a:chExt cx="765720" cy="497520"/>
            </a:xfrm>
          </p:grpSpPr>
          <p:sp>
            <p:nvSpPr>
              <p:cNvPr id="7" name=""/>
              <p:cNvSpPr/>
              <p:nvPr/>
            </p:nvSpPr>
            <p:spPr>
              <a:xfrm>
                <a:off x="811080" y="1241640"/>
                <a:ext cx="437760" cy="497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93760" y="1241640"/>
                <a:ext cx="383040" cy="49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380880" y="1164960"/>
              <a:ext cx="581760" cy="442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40040" y="685800"/>
              <a:ext cx="32760" cy="1103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708840" y="1546920"/>
              <a:ext cx="9027000" cy="57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762120" y="6515280"/>
            <a:ext cx="8381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Software Desig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Slide  </a:t>
            </a:r>
            <a:fld id="{9E82D2DD-7B5F-4B00-937A-1B4F81863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ftware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3047760"/>
            <a:ext cx="578304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Programs as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view is programs as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           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is viewed as a function from a s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legal inputs to a set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programming languages (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ML, Miranda, LIS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directly support this view of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094360"/>
            <a:ext cx="3657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ll-suited to certain application dom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-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.g.,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070600"/>
            <a:ext cx="556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ss well-suited to distributed, non-terminating syste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- e.g., process control systems, operating systems like WinNT, ATM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952880"/>
            <a:ext cx="853452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Times New Roman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003400"/>
            <a:ext cx="84582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is viewed a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ection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acting o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ystem state is decentr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ea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manages its own sta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bjects may be instances of an object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ommunicate by exchanging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Criteria for Desig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identify </a:t>
            </a:r>
            <a:r>
              <a:rPr b="1" lang="en-GB" sz="3200" spc="-1" strike="noStrike">
                <a:solidFill>
                  <a:srgbClr val="9933ff"/>
                </a:solidFill>
                <a:latin typeface="Times New Roman"/>
              </a:rPr>
              <a:t>five criter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help evaluate modular desig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ecompo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o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nderstand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ntinu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ote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De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riterion is met by a design method if the method supports the decomposition of a problem into smaller sub-problems, which can be solved independ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general method will be repet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ub-problems will be divided still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p-down desig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lfil this criterion; stepwise refinement is an example of such method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Desig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1680" y="2006640"/>
            <a:ext cx="85723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905120"/>
            <a:ext cx="83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op-down design involves star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uppermost components in the hierarch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orking down the hierarchy level by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prac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arge systems design is nev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ly top-down. Some branches are designed before others. Designers reuse experience (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components) during the desig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ar 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906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hod satisfies this criterion if it leads to the production of modules that may be freely combined to produce new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osability is directly related to the issue of reu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e that composability is often at odds with decomposability; top-down desig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ends to produce modules that may not be composed in the way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top-down design leads to modules which fulfil a specific function, rather than a general 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Numerical Algorithm Grou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NAG) libraries contain a wide range of routines for solving problems in linear algebra, differential equation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Unix shell provides a facility called a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pip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ritten “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, where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standard output of one program may be redirected to the standard input of another; this convention favours compos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ar Understand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design method satisfies this criterion if it encourages the development of modules which are easily understand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ER EXAMPLE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 a thousand lines program, containing no procedures; it’s just a long list of sequential statements. Divide it into twenty blocks, each fifty statements long; make each block a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ER EXAMPLE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ed to several component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 the component be understood on its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meaningful name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 the design well-documen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complex algorithm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formally, high complexity means many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ionships between different parts of th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743200"/>
            <a:ext cx="842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riving a solution which satisfies software requir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Contin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7760" y="198108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satisfies this criterion if it leads to the production of software such that a small change in the problem specification leads to a change in just one (or a small number of )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me projects enforce the rule that no numerical or textual literal should be used in programs: only symbolic constants should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NTER 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arrays (as opposed to open arrays) make this criterion harder to satis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96280" y="2057400"/>
            <a:ext cx="152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96280" y="3581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hod satisfied this criterion if it yields architectures in which the effect of an abnormal condition at run-time only effects one (or very few)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.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alidating input at source prevents errors from propagating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UNTER EXAMPLE.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Using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int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ypes where subrange or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hort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ypes are appropria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principles for Goo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discussion above, we can distil five principles that should be adher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nguistic modular un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ew interfa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mall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plicit interfa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rmation hi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guistic Modular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ming language (or design language) should support the principle of linguistic modular un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ules must correspond to linguistic units in the languag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va method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NTER 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routines in BASIC are called by giving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ne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execution is to proceed from; there is no way of telling, just by looking at a section of code, that it is a subrou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429000"/>
            <a:ext cx="761976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w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states that the overall number of communication channels between modules should be as small as possi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module should communicate with as few others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in the system with n modules, there may be a minimum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maximum of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s; your system should stay closer to the min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1160" y="3233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15200" y="4952880"/>
                <a:ext cx="7621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w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257800" y="2057400"/>
            <a:ext cx="4191120" cy="3581280"/>
            <a:chOff x="5257800" y="2057400"/>
            <a:chExt cx="4191120" cy="3581280"/>
          </a:xfrm>
        </p:grpSpPr>
        <p:sp>
          <p:nvSpPr>
            <p:cNvPr id="107" name=""/>
            <p:cNvSpPr/>
            <p:nvPr/>
          </p:nvSpPr>
          <p:spPr>
            <a:xfrm>
              <a:off x="5257800" y="297180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472428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6600" y="205740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312408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25040" y="4876920"/>
              <a:ext cx="761760" cy="761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3733920"/>
              <a:ext cx="304920" cy="10666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440" y="5181480"/>
              <a:ext cx="1371600" cy="15264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534520" y="3885840"/>
              <a:ext cx="457200" cy="10666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867640" y="2438280"/>
              <a:ext cx="1218960" cy="60984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48720" y="2514600"/>
              <a:ext cx="990720" cy="68580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3429000"/>
              <a:ext cx="266688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67640" y="3581280"/>
              <a:ext cx="22096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324480" y="2819520"/>
              <a:ext cx="990360" cy="1904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43800" y="2819520"/>
              <a:ext cx="685800" cy="2133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477120" y="3733920"/>
              <a:ext cx="228600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7200" y="297180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4724280"/>
            <a:ext cx="76176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05740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312408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876920"/>
            <a:ext cx="76212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752120" y="3657600"/>
            <a:ext cx="2133720" cy="1447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76520" y="2742840"/>
            <a:ext cx="990360" cy="205740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33920" y="3885840"/>
            <a:ext cx="457200" cy="106668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438280"/>
            <a:ext cx="1219320" cy="6098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743200"/>
            <a:ext cx="533160" cy="21337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 Interfaces (Loose Coupl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st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any two modules communicate, they should exchange as little information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NTER EXAMPLE. Declaring all instance variables as publi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520" y="1669680"/>
            <a:ext cx="899172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sure of the strength of the inter-connections between system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ose coupl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component changes are unlikely to affect other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variables or control information exchange lead t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ght coup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Loose coupling can be achieved by state decentralization (as in objects) and component communication via parameters or message pa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4300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ght 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11160" y="1803240"/>
            <a:ext cx="62485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se 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82560" y="1638360"/>
            <a:ext cx="6858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of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blem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t the problem from different angles to discover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ntify one or mor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possible solutions and choose the most appropriate depending on the designer's experience and availabl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cribe solution abst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raphical, formal or other descriptive notation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he components of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peat process for each identified abst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 design is expressed in primitiv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905120"/>
            <a:ext cx="876312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bject-oriented systems are loosely coup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re is no shared state and objects communicate using message pa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w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an object class is coupled to its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super-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Changes made to the attribu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operations in a super-class propagate to al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13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ing and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70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major obstacle to the production of cheap quality software is the intractability of the reusability iss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n’t writing software more like producing hardware? Why do we start from scratch every time, coding similar problems time after time after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tac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conom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ganizat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sycholog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mplest realistic design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dely used in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ppropriate for large-scale, distributed systems: mainly applicable to the design of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ic idea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rt with a high-level spec of what a method is to achie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reak this down into a small number of problems (usually no more than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each of these problems do the s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eat until the sub-problems may be solved immediate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modul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unicate, they must do it so that we can se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modules A and B communicate, this must be obvious from the text of A or B or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?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change a module, we need to see what other modules may be affected by thes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inciple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formation about a module, (and particularl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dule does what it does) should be private to the module unless it is specifically declared otherw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us each module should have som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how the world sees it anything beyond that interface should be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default Java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ke everything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measure of how well a component “fits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gether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should implement a single log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or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 is a desirable design compon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as when a change has to be made, i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localized in a single cohesiv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rious levels of cohesion have been iden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cidental cohes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f a component are simply bundl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associa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which perform similar functions are grou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cohes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which are activated at the same time are grou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6480" y="152388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al cohesio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elements of a component operate on the same input or produce the same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cohesio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put for one part of a component is the input to another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cohe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tr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rt of a component is necessary for the execution of a singl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cohe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tr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peration provides functionality which allows object attributes to be modified or ins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as a Design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well-defined. Often difficult to classif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ing attributes from super-class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ens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o understand a component, the super-classes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s well as the component class must be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exa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bject class browsers assist with this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sig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9068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 design may be modelled as a directed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de up of entities with attributes which participate in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should be described at several different levels of abst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takes place in overlapping stag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is artificial to separate it into distinct phases but   some separation is usually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s in the Desig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6920" y="2031840"/>
            <a:ext cx="88516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670040"/>
            <a:ext cx="93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chitectural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dentify sub-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stract specificatio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sub-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erface desig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sub-system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ponent desig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sub-syste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 structure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gn data structures to hold problem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gorithm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gn algorithms for problem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70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ystems are not monolithic: they are usually composed of multiple, interacting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ity has long been seen as a key to cheap, high quality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al of system design is to de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modules a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modules should b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he modules interact with one-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early days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ular progra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aken to mean constructing programs out of small pieces: “subroutin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ula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ring benefits unless the modul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utonom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h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Procedural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obvious design methods involv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unctional de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ads to programs in whi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s represent distinct logical 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uch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Display me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Get user o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cedural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3:45:33Z</dcterms:created>
  <dc:creator>Potapov</dc:creator>
  <dc:description/>
  <dc:language>en-US</dc:language>
  <cp:lastModifiedBy>Dr.Hazim</cp:lastModifiedBy>
  <dcterms:modified xsi:type="dcterms:W3CDTF">2005-10-12T04:41:32Z</dcterms:modified>
  <cp:revision>52</cp:revision>
  <dc:subject/>
  <dc:title>Software Engineering COMP 201</dc:title>
</cp:coreProperties>
</file>